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B55-EDA5-4634-AAC1-BDDF49C2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52A-EA32-4B21-84A9-37E45E6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E57-1C57-4F9D-85A3-412CF8D9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854-9AED-4D6D-A185-4A06A57E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C42-3B9D-48F7-BDA7-DFC96639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598-4C96-4382-BED0-0998552D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1CA-AA59-4187-BDA7-AC643EC1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32C-0216-4172-9CD5-62488DC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940-8DAC-46AC-965B-7C4DCD9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147-5752-4278-8799-EDD75930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FBC-644E-4466-829E-CDED8F3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5EE-EC13-45F9-9A3D-35A2E93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4F5FA-81CD-4253-82A4-3525D331F7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345DA-37A2-4FE7-887C-4B028D275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2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How many parents are involved in sexual reproduction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vs. 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3"/>
          <p:cNvSpPr/>
          <p:nvPr/>
        </p:nvSpPr>
        <p:spPr>
          <a:xfrm>
            <a:off x="200160" y="2225520"/>
            <a:ext cx="5337000" cy="422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562200" y="2225520"/>
            <a:ext cx="5338800" cy="422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038240" y="1728720"/>
            <a:ext cx="35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591080" y="1703520"/>
            <a:ext cx="35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vs. 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, in your same groups, write a paragraph comparing and contrasting sexual and asexual reproduction.  You can use the provided template, but you will not have the template on the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3.7 Independent Practic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plete the independent practice on a separate sheet of paper from your notes (you will be turning this in at the end of class)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s (team prize ba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z Re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– Venn Diagrams and writing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Team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After today, you will be able to create a Venn diagram and write a brief paragraph comparing and contrasting sexual and asexual reproduction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8 on the writing rubric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323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3.7 Comparing and Contrasting Sexual and Asexual Reproduction Class Not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nn Diagra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Prokaryotic vs. Eukaryotic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3"/>
          <p:cNvSpPr/>
          <p:nvPr/>
        </p:nvSpPr>
        <p:spPr>
          <a:xfrm>
            <a:off x="0" y="2225520"/>
            <a:ext cx="5780160" cy="444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363840" y="2225520"/>
            <a:ext cx="5780160" cy="444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703680" y="3121200"/>
            <a:ext cx="2138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are types of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ontain 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ontain 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33480" y="17445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249880" y="17175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71400" y="2754360"/>
            <a:ext cx="2907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no nucle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nly organelles are 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42960" y="4824360"/>
            <a:ext cx="293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Bacteria are prokaryotic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918040" y="2906640"/>
            <a:ext cx="2907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a nucle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many organel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imals, plants, and fungi have eukaryotic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Sexual and Asexual Reproduction are both _________________. However, they are different in many ways.  Sexual reproduction happens between ______ parents, while asexual reproduction involves only ____ parent. 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-360"/>
            <a:ext cx="91440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The offspring produced by sexual reproduction have ___________ DNA to/from the parents.  However, the offspring produced by asexual reproduction have ____________ DNA to the parent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omplete the following diagrams in groups of 2-3 within your team.  Feel free to use color in your diagrams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3:48:13Z</dcterms:created>
  <dc:creator>Caroline Roth</dc:creator>
  <dc:description/>
  <dc:language>en-US</dc:language>
  <cp:lastModifiedBy>Caroline Roth</cp:lastModifiedBy>
  <dcterms:modified xsi:type="dcterms:W3CDTF">2010-10-25T04:58:42Z</dcterms:modified>
  <cp:revision>5</cp:revision>
  <dc:subject/>
  <dc:title>Bellringer</dc:title>
</cp:coreProperties>
</file>